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886-E117-4362-9266-56B11D0B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498-9F5D-4CB3-873E-77D7CCE5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AAD-554C-48F8-9612-A3D540D8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6EC-587A-482B-BDB2-60027221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424-6330-4B2A-9B0E-B8230443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339-865A-4105-8730-335B78B0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B5B-B3C5-4641-8B49-0146EE4D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3F5-E7E3-4FA5-8555-7C80EC4C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5FA-2449-4490-8562-62CF5FC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F20-51B1-40E6-AA6B-FEE400F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387-A2DD-414E-9179-56052491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524-0712-4B75-BE41-681A5A8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64EC-5D4D-4B80-A5E6-6364C6018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89280" y="47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395000" y="0"/>
            <a:ext cx="823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imes New Roman"/>
                <a:cs typeface="Arabic Transparent"/>
              </a:rPr>
              <a:t>يسوع أنت إله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08120" y="0"/>
            <a:ext cx="56001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سجدُ أمامَك إله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ترفُ بك مل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ا هي حياتي في يدي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فعل بها ما ت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سوع أنتَ من أريد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8006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 واملك على قلبي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توقُ إليكَ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ُرنِّم لك شفتاي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أُحبك للأب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1120" y="458640"/>
            <a:ext cx="47638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نحني لاسمِكَ كل ركب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ويعترف كل ل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ك يسوع خلاص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أردده في كل ح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2:49Z</dcterms:created>
  <dc:creator>USER</dc:creator>
  <dc:description/>
  <dc:language>en-US</dc:language>
  <cp:lastModifiedBy>USER</cp:lastModifiedBy>
  <dcterms:modified xsi:type="dcterms:W3CDTF">2003-02-03T14:36:41Z</dcterms:modified>
  <cp:revision>3</cp:revision>
  <dc:subject/>
  <dc:title>PowerPoint Presentation</dc:title>
</cp:coreProperties>
</file>